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CB2-A37C-42C7-A2D9-368CDA1F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784-73CC-4D71-8EB7-F967DC0C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C4A-DCA7-4236-910E-D8D17D08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979-0960-4D87-B3C8-2089DC21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9C1-97A6-4237-8B70-E0CD8D3C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BE3-341D-453A-9E34-BE84ED21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E10-519D-4A6A-96F5-4A1B10B9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CE1-26EA-47B6-9D42-C8FC9028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08CC-6023-4975-829F-0740CE11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AD45-6FB2-476D-9319-42CF7F7A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98E-B375-4BA5-9E12-E5A82F83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5C5-FCAB-4353-9717-692BD278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84E8-EF6A-444F-B89C-F4447A913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67440" y="2727360"/>
            <a:ext cx="420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All Hail the La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21245" t="0" r="24005" b="0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60" y="1189080"/>
            <a:ext cx="4204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ll hail the Lamb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nthroned on h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is praise shall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ur battle c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e reigns victorio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orever glor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is name is Jes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e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7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2080" y="115920"/>
            <a:ext cx="8259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ll hail the Lamb, enthroned on high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is praise shall be our battle c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e reigns victorious, forever gloriou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is name is Jesus, He is the L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7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5:41:29Z</dcterms:created>
  <dc:creator>TrifonTrifonow</dc:creator>
  <dc:description/>
  <dc:language>en-US</dc:language>
  <cp:lastModifiedBy>TrifonTrifonow</cp:lastModifiedBy>
  <dcterms:modified xsi:type="dcterms:W3CDTF">2005-12-28T06:04:20Z</dcterms:modified>
  <cp:revision>2</cp:revision>
  <dc:subject/>
  <dc:title>Slide 1</dc:title>
</cp:coreProperties>
</file>